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DE9-39F1-4379-8A31-E620037C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E01A-80D6-4C55-BF9B-FF1CBC1D5AF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080-6749-4EB8-8CE4-62CB049B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F35-09F2-4799-A044-CEDE487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7ED-FF2C-4F9F-B1F9-5574A097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125-BF01-4838-B629-E6FAB9B3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958-4E4A-4CDE-85D8-5B718CA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53E-2686-4CC3-9F64-DF2E7F0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071-4EAD-4FAE-999D-AFAE11FC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173-469C-46C5-BCC9-44A6DCC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846-FD5C-4137-AF8F-1F43E6A4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5E0-1313-47CA-855D-EFAD886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DE3-A6F1-4934-9563-E0324B8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98A-CB5C-4030-92A8-CE33AFB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5E1B-A0A9-40F9-9C31-1B143C14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calvin.html" TargetMode="External"/><Relationship Id="rId2" Type="http://schemas.openxmlformats.org/officeDocument/2006/relationships/hyperlink" Target="http://highered.mcgraw-hill.com/sites/0070960526/student_view0/chapter5/animation_quiz_1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P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winkle_toes_engineering.home.comcas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---&gt; 4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12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3 ATP + 2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8480" y="2819520"/>
            <a:ext cx="57470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king Atoms in Photosynthesis</a:t>
            </a:r>
            <a:br>
              <a:rPr sz="4000"/>
            </a:br>
            <a:br>
              <a:rPr sz="25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2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             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+ 6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73080" y="2673360"/>
            <a:ext cx="7199280" cy="3290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3352680" y="160020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1-03-31T22:31:14Z</dcterms:modified>
  <cp:revision>17</cp:revision>
  <dc:subject/>
  <dc:title>PowerPoint Presentation</dc:title>
</cp:coreProperties>
</file>